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B88-C382-4B10-B29E-EF38ED4F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9D3-77A9-4A7B-98B1-0A07BEF9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9E3-00D9-4645-A32C-42C2E9F8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B82-1B12-4FEB-B070-BA2537E3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518-F027-417E-B977-82A9189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708-B150-4E26-9BA5-460FE4F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CDF-1D39-447D-97A5-D0B1B71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F5E-F447-4A34-9093-B1E9422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7D6-3A12-41F0-8632-147017C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720-6E92-4ED8-BDF8-9DDA00B3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5B6-BFF7-4489-89F4-4B4F453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878-5FEF-415D-87C1-96316AB6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FFB-F11D-41F7-A983-136D14E86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4"/>
          <p:cNvSpPr/>
          <p:nvPr/>
        </p:nvSpPr>
        <p:spPr>
          <a:xfrm>
            <a:off x="3429000" y="-838080"/>
            <a:ext cx="0" cy="998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80880" y="609480"/>
            <a:ext cx="266724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SECO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380880" y="236232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88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Y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t0.gstatic.com/images?q=tbn:ANd9GcRgbkiPHZZ18SRSAFXONasYTzu9isS1m58LociN3PlV5FoprxU&amp;t=1&amp;usg=__wKKhWIK9TSq6p9wMH1smYTMpplY="/>
          <p:cNvPicPr/>
          <p:nvPr/>
        </p:nvPicPr>
        <p:blipFill>
          <a:blip r:embed="rId1"/>
          <a:stretch/>
        </p:blipFill>
        <p:spPr>
          <a:xfrm>
            <a:off x="3962520" y="3657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0.gstatic.com/images?q=tbn:ANd9GcQ1vgh3igWifB1ndVG0eMAl-19P6SkMBawCPy4cZYrTlKqHXL0&amp;t=1&amp;usg=__iat1S4zqdK0VxwrhBODWX8x1dAs="/>
          <p:cNvPicPr/>
          <p:nvPr/>
        </p:nvPicPr>
        <p:blipFill>
          <a:blip r:embed="rId2"/>
          <a:stretch/>
        </p:blipFill>
        <p:spPr>
          <a:xfrm>
            <a:off x="3773520" y="0"/>
            <a:ext cx="271296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0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2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6"/>
          <p:cNvSpPr/>
          <p:nvPr/>
        </p:nvSpPr>
        <p:spPr>
          <a:xfrm>
            <a:off x="168120" y="-647640"/>
            <a:ext cx="24768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8" descr="http://t3.gstatic.com/images?q=tbn:ANd9GcQZh3p9Km-MTplBFj9wtwn7IgLcStutczRzzpgg5uAwMuDzKQQ&amp;t=1&amp;usg=__QoPwcJ3Z_C0KYCcrSka8dR9CFCg="/>
          <p:cNvPicPr/>
          <p:nvPr/>
        </p:nvPicPr>
        <p:blipFill>
          <a:blip r:embed="rId3"/>
          <a:stretch/>
        </p:blipFill>
        <p:spPr>
          <a:xfrm>
            <a:off x="4495680" y="5486400"/>
            <a:ext cx="1371600" cy="18302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0"/>
          <p:cNvSpPr/>
          <p:nvPr/>
        </p:nvSpPr>
        <p:spPr>
          <a:xfrm>
            <a:off x="168120" y="-754200"/>
            <a:ext cx="1571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4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6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8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0"/>
          <p:cNvSpPr/>
          <p:nvPr/>
        </p:nvSpPr>
        <p:spPr>
          <a:xfrm>
            <a:off x="168120" y="-700200"/>
            <a:ext cx="1143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2"/>
          <p:cNvSpPr/>
          <p:nvPr/>
        </p:nvSpPr>
        <p:spPr>
          <a:xfrm>
            <a:off x="168120" y="-388800"/>
            <a:ext cx="80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4" descr="http://images.rods.com/RS/SR/Product/sc602_F.jpg"/>
          <p:cNvPicPr/>
          <p:nvPr/>
        </p:nvPicPr>
        <p:blipFill>
          <a:blip r:embed="rId4"/>
          <a:stretch/>
        </p:blipFill>
        <p:spPr>
          <a:xfrm>
            <a:off x="4191120" y="7315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6" descr="http://t1.gstatic.com/images?q=tbn:ANd9GcTxMNuMwwTA2D3-kyG7hS7HUosDUhBPr-UL4gu5DRItVDoYaII&amp;t=1&amp;usg=__FJpa9C26tFmEMUuiQtuNg5HMO2Q="/>
          <p:cNvPicPr/>
          <p:nvPr/>
        </p:nvPicPr>
        <p:blipFill>
          <a:blip r:embed="rId5"/>
          <a:stretch/>
        </p:blipFill>
        <p:spPr>
          <a:xfrm>
            <a:off x="3733920" y="1828800"/>
            <a:ext cx="2747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429000" y="-838080"/>
            <a:ext cx="0" cy="998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>
            <a:off x="0" y="7315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80880" y="6094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2280" y="2363760"/>
            <a:ext cx="31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426708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26960" y="6095880"/>
            <a:ext cx="266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57200" y="7848720"/>
            <a:ext cx="259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168120" y="-326880"/>
            <a:ext cx="8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6" descr="http://t2.gstatic.com/images?q=tbn:ANd9GcQBvGb3rQZrctQuKe8HEicQpNJQg7N3yNpfAC1685qmfLSNMKI&amp;t=1&amp;usg=__FQC8km7_qSrXUDitJ3KWhx8Gkew="/>
          <p:cNvPicPr/>
          <p:nvPr/>
        </p:nvPicPr>
        <p:blipFill>
          <a:blip r:embed="rId1"/>
          <a:stretch/>
        </p:blipFill>
        <p:spPr>
          <a:xfrm>
            <a:off x="4191120" y="5486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ttp://t0.gstatic.com/images?q=tbn:ANd9GcTYY7fw2OQ-t7hIoaUHfOitFpjYFuo_ipp2sdeK54GZO6Qbu4E&amp;t=1&amp;usg=__0xcS1zay-IC6_4e2LvflXmowBmk="/>
          <p:cNvPicPr/>
          <p:nvPr/>
        </p:nvPicPr>
        <p:blipFill>
          <a:blip r:embed="rId2"/>
          <a:stretch/>
        </p:blipFill>
        <p:spPr>
          <a:xfrm>
            <a:off x="3809880" y="7296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http://t2.gstatic.com/images?q=tbn:ANd9GcQkA_25PN1wk2NCeQ-p_AcK2HEosjYchmrPFOJbuefTLyDmWYk&amp;t=1&amp;usg=__dNcivBPgFRLWRsEcYxtHtPvVVd4="/>
          <p:cNvPicPr/>
          <p:nvPr/>
        </p:nvPicPr>
        <p:blipFill>
          <a:blip r:embed="rId3"/>
          <a:stretch/>
        </p:blipFill>
        <p:spPr>
          <a:xfrm>
            <a:off x="4038480" y="1828800"/>
            <a:ext cx="2057400" cy="181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http://t0.gstatic.com/images?q=tbn:ANd9GcRVfzoZwzjIQqIDtAYBbvODcavcFcWvQYMbiB-x-z6SZ4gMDrk&amp;t=1&amp;usg=__nae7hIvLH-R4T3D-HMBsc-xlBnY="/>
          <p:cNvPicPr/>
          <p:nvPr/>
        </p:nvPicPr>
        <p:blipFill>
          <a:blip r:embed="rId4"/>
          <a:stretch/>
        </p:blipFill>
        <p:spPr>
          <a:xfrm>
            <a:off x="3886200" y="0"/>
            <a:ext cx="23796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4" descr="http://t0.gstatic.com/images?q=tbn:ANd9GcRmWMQ2GZhbuY8Kv3gMnH8cRj3UkVVuDwXO-na__TuEFBgIuVA&amp;t=1&amp;usg=__awMvIt2vb-WlqlGMGhofCh1jCpw="/>
          <p:cNvPicPr/>
          <p:nvPr/>
        </p:nvPicPr>
        <p:blipFill>
          <a:blip r:embed="rId5"/>
          <a:stretch/>
        </p:blipFill>
        <p:spPr>
          <a:xfrm>
            <a:off x="3809880" y="3657600"/>
            <a:ext cx="2457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9:14:23Z</dcterms:created>
  <dc:creator>Hutto ISD</dc:creator>
  <dc:description/>
  <dc:language>en-US</dc:language>
  <cp:lastModifiedBy>lottun</cp:lastModifiedBy>
  <cp:lastPrinted>2010-09-16T02:03:23Z</cp:lastPrinted>
  <dcterms:modified xsi:type="dcterms:W3CDTF">2010-09-28T19:46:42Z</dcterms:modified>
  <cp:revision>29</cp:revision>
  <dc:subject/>
  <dc:title>No Slide Title</dc:title>
</cp:coreProperties>
</file>